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DBD-2931-4E0B-BA94-5E1E8A74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B244-FC27-411A-A56C-A81590E2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2D0-F298-4586-9014-E224ED4C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2CB-7EC7-4A09-90EB-C2D4802C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2E13-905E-4C46-9F0B-66696907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691-19CE-4740-9B3B-F7E56928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D53-CB8B-4B52-919B-24BD7D20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E36E-5CAD-4C5B-90A8-F1915249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C37-05C7-4E37-9350-E42BE355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234-D9C2-4EF0-987F-286AB050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163-FDD4-401F-A083-ADC24012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0E7-1F4C-4A90-A67E-3FA03192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ECFD-7881-4995-9751-C1D2F51CE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rse 2 October 25, 201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rm - up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523880" y="1752480"/>
                <a:ext cx="9144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671400" y="32781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295280" y="3251160"/>
                <a:ext cx="13716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ke the numbers easier to multiply, you can cross simplify before you begin the multi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143000" y="4419720"/>
                <a:ext cx="13716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62120" y="3733920"/>
            <a:ext cx="5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638680" y="4343400"/>
                <a:ext cx="19051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219320" y="2057400"/>
                <a:ext cx="990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714240" y="33764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371600" y="3429000"/>
                <a:ext cx="16765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57000" y="48020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371600" y="5029200"/>
                <a:ext cx="16002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1:06:50Z</dcterms:created>
  <dc:creator>Brian McGrath</dc:creator>
  <dc:description/>
  <dc:language>en-US</dc:language>
  <cp:lastModifiedBy>deanne elizabeth mcgrath</cp:lastModifiedBy>
  <dcterms:modified xsi:type="dcterms:W3CDTF">2011-10-25T19:23:36Z</dcterms:modified>
  <cp:revision>6</cp:revision>
  <dc:subject/>
  <dc:title>Warm - up:</dc:title>
</cp:coreProperties>
</file>